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145-B197-4878-A529-24935531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D74-7498-4ACB-905E-CB1A5D4A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C3C59-16A7-4AD4-841B-4F3EEDA2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06A64-EC81-4693-9630-9B327945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5061B-6ABA-40DF-ABC9-CF79990C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09DDA-9669-4514-961A-8D15FFF2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0E318-389C-4C45-8F81-EA1EBBCD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07238-3223-48B9-AEBD-2D8A53AD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A0129-50E0-4CB1-99C4-86AE3BF2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9D01D-B78C-42F5-A4BC-05CF8A02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78398-C8B6-4FF6-A4A9-CB0F0F42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9CC7D-FBAF-4A14-8D2F-C99B2CCF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692-CE62-4BF0-83C3-C01D20EF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3FF41-1FF9-4764-9620-66A66877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BA05D-0771-4C8D-8866-486112C1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5E146-B5B3-4766-A367-477432A3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BB418-2E0C-4176-967D-DCDF8319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A51A3-4CD0-4F81-93DB-D5291D33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4D658-4DD9-4172-8D31-3514073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5020A-4745-48C5-8468-FA4684C6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80402-810E-4373-B5D1-8090FCA0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B72FE-9688-4C80-AE97-CCF95541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8D1A5-9457-49F0-9455-646FE5E0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7B1-1194-4D2C-A6F8-E492BDF3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D8522-4C68-4EE8-83D3-03488BF1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AE9B-F0C6-4879-B18C-A020962D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AA83-CBB4-4EEE-98C4-3D0AF648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335C-D84F-445F-AC61-E1D3E5E3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C3AC-6A58-4BD9-B6B8-17AABFC4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DDDF-1A91-4384-8EB9-416AC507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F1E2-B8E9-4826-84E8-4FC7C57E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4AEB-A303-4A7B-BE9B-83546EE4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433-220C-4499-B62E-BF3E2A25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E3E5-C996-424C-A571-38B33FD1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EC7D-469C-4095-A5E7-1C12CDDA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52F4-163E-44E6-B805-1B1223E2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5052-2744-4E6F-9360-06806481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16BE-B46A-4A05-B66B-A84DE980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97B2-150C-42B2-85E0-4E9F2C51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9F66E-0DED-4D48-A4A8-3C656D2C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20554-37DF-47FE-9939-F8DA6593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C565-EE34-4741-AB98-18C89E8A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7346-0BAB-49E8-B5C2-273EC176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C44-5587-495A-821E-470C9B50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29072-42AD-4F6F-98E7-02AED363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83BA-747A-4080-949A-291753D8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67AC-E001-42C0-A155-4D8EDF86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9A4C-418F-45F7-B228-19718977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E507-A22E-42D6-8B23-61242B78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620EF-33F7-4795-83FB-EA2BA411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07CC-2682-4106-8F4E-50CD172B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FC3C0-CE84-43F2-9307-064D77D0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884E5-6E36-468B-A647-08ABF722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92AAE-94DA-4F37-B4ED-09001C26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FE1-211B-4CC0-B2A9-3834FE17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F1D7C-D23F-445E-B264-4C3D7ACE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73C6C-8C5B-4A8A-ADE3-C8ED338D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3138E-BD81-4A99-ADFB-1E59197F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1387B-6CE0-4886-AF81-1BDCB796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07D22-F076-4F1C-BFF1-F42EAD7D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672D-A7AA-4AF0-BF24-EB5DD948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D8E8D-7A02-494D-A91F-8128D57D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F695-BFD4-484B-B13B-F86E9F7E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06D6-4C44-473F-97F4-FCAC2254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8866E-9F4D-4DE1-A0C5-DFC05B9E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FFA-907A-465E-8552-4BB6F6E1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A5AE6-2AAD-48FC-89CA-43D546E8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73899-2809-4D25-BEA9-282B385A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3AB34-8434-43EB-9143-B87A821F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117B9-E58F-4AE0-ABA5-C30BACF4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579DC-9817-4944-A722-CAF36058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4B891-37EF-4FA2-9094-E2F48823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3AA5-0CC8-4B1B-80AF-5707112C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A56B3-B02C-4953-AE50-EB1FAF1C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67732-BE73-49FF-AE0C-125E7B15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45F07-EED8-4766-B5B2-AAB26BAC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740-849F-4204-96B8-9C352CE2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BE7FC-8CB0-462C-9666-B2AD5DF7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038A4-12CB-4DBB-BFBE-F4A55FB4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DD38B-6F44-4E7F-A544-CEB6E424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4209C-D743-4905-890E-5E7C4B05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3219B3-F2FC-4826-87B2-DC3D3B2F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2B14F-2BE1-4A48-9D54-6A2D1AB4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512B6-4F52-4576-B02D-25963207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6D0CA-17B5-48ED-8CDF-7FA61A7B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8B80A-7F3A-4183-AD86-310F371F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392CD3-B99C-4C59-A891-6624A210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94E-53B7-4166-B679-21C4CA8C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D14F0-79C1-4949-9233-CE754F38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71977-4751-4535-833B-EEDB2959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586D4-B521-4272-8577-8F21E746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99126-C285-4A54-A9E1-AB9024A6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62541-723E-4193-8D7F-5D1DA98A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814AB-4F5E-47F1-B86F-33F528CE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0849F-C27B-4638-A3D2-1A2422F4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4EBB5-AD9F-4F87-855F-BAE01C3D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BBF9D-1699-4FBA-A7B3-CE348A0A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21CFB-03DF-4CEB-9CF4-C6B06030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731-F844-449E-8638-403B948B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FBCFE-A494-4A7E-A5DB-ABE0351B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87C33-9CA2-466E-B458-ADCDE8CA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F858F-6DF9-4D1E-8B3A-1CB80EFE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08456-29A7-43C6-85B6-67C45F37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3DE20-8D64-4BD8-80D9-B2C2C530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EF0C4-98BB-40C3-894F-8433F845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B5D89-E8A5-4B12-88B3-4272E6ED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311DF-BF28-4BE4-929B-30F3E9C0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12392-319B-4645-AE51-DCDF77D8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EC6A2-5016-4948-8CF0-55C64E07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9EF-8ECD-47EE-8579-C39372F0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32EB9-96CD-40AD-BE86-AF832D6E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31AFA-88A9-4215-BDD9-A2C2278C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9FA74-E84C-4C67-A120-DFE8B4E5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7A634-8BB0-4AC7-A04A-7A85D786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A51E4-D83F-4CA5-A116-383387D5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B034C-569B-4708-9886-40B037AB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89CCA-DDA7-4691-B785-F9F36C49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098E6-49C6-4111-9196-C9C4EA3D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7251A-A957-422C-B9E7-6D773C4E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41259-2AB1-42CB-8C45-6A8959EC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1DDC-D6EB-464F-A88B-C0D301AD35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6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F547-9B88-41FC-A9D5-BDF6BAF162B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7683-867D-493D-A8E1-35052B941A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BF9E-340D-4CD2-ADC2-9A666E22576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6D0C-7EE6-4A38-B6DE-744180E3F5D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6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2721-259A-4D6C-AA0B-F16AA8894C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2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2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3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3FB3-17DA-44CE-A6CA-4DB356A76F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8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8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902F-040F-4D61-82B1-DE70D3BFF9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3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908B-86B6-4FC0-8329-14DAC1CBC7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9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9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2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A7B3-F3B0-4EDB-800B-12010D80918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Jocelyn Dav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learning Sty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learning style is visual learn that means that I by reading ,watching ,viewing inform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 Learning Techniqu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earning technique is concrete sequent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means I am strongly left-brain dominate and that I like to have things in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Hemispheres of my brai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found out that the left hemisphere of my brain I am a sequential thinker and methodic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Intelligence Typ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intelligence type is creative intellige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t means that I like to create all forms of art, able to express ideas without wor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’s important to learn how your brain works because then you know the sides that you are and that you need to exercise it to learn mo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erybody has their own way of thinking outside the box or insi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I Can Use My Br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an use what I have learned about the way my brain works in school. I can do this when I do art projects and to do my work properly. To show off my smartness when answering a ques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0:43Z</dcterms:created>
  <dc:creator>student</dc:creator>
  <dc:description/>
  <dc:language>en-US</dc:language>
  <cp:lastModifiedBy>student</cp:lastModifiedBy>
  <dcterms:modified xsi:type="dcterms:W3CDTF">2010-11-23T16:03:48Z</dcterms:modified>
  <cp:revision>6</cp:revision>
  <dc:subject/>
  <dc:title>My Personal Learning Profile</dc:title>
</cp:coreProperties>
</file>